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4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AA0-34AC-4A18-8634-B22F19EE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FC6-CE62-4DD6-858B-9ABCB470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863-273D-47E0-92AA-A6EB5D8A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349-F708-4B18-AAF4-7384D913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C0C-57F8-443F-B578-ED0F045D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271-8460-4898-ADD5-B36F3FE7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DBF-864A-43C2-9758-9DFE8915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8D4-E035-45ED-BCF0-8D7D5246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19E-CE6A-44BE-9BC6-D63AD334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0E4-A778-4A87-8FBF-2C1CC81B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FE9-7CFD-4EE1-A53C-AFE2A47E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2AD-F824-47C1-8A97-D844ECC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D8AD-C700-4BE0-9D3A-2AF76D15F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Trip to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117600" cy="288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5599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6960" y="5410080"/>
            <a:ext cx="41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country you are vis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Festival Atten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one about Festival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two about Festival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three about Festival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Festival in my country’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Festival in US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041560" cy="2023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festival from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shopped 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 shopping 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(s) purchased (minimum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each item purchased in my country’s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each item purchased in US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bout shopp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bout shopp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1197000" cy="137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s of items purchased from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38880" y="1523880"/>
            <a:ext cx="13338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your sour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Fare to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gh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Ti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Trave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Trave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2895480" cy="1852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42670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relative picture related to travel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cy Exchange i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used i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 =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2438280" cy="194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95680" y="38098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currency from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el Accommo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tayed 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ccommodatio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ccommodatio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to stay in Hotel per night in US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to stay in Hotel per night in your country’s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1805040" cy="1538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24280" y="3733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relative picture of your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fast a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order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Breakfast in my Country’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Breakfast in US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bout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about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170080" cy="227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breakfast from your 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nch a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order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Lunch in my Country’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Breakfast in US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bout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about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lunch from your 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21049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ner a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order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inner in my Country’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inner in US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bout D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about D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dinner from your 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21049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raveled around my country by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for daily travel in my country’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for daily travel in U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bout daily trav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about daily travel m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438640" cy="2239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travel mode from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site I visited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te Poi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te Poi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te Poi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Fee Cost in My Country’s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Fee Cost in US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2327400" cy="218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876920" y="4419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historical site visited from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20:03:39Z</dcterms:created>
  <dc:creator>Director Of Technology</dc:creator>
  <dc:description/>
  <dc:language>en-US</dc:language>
  <cp:lastModifiedBy>Director Of Technology</cp:lastModifiedBy>
  <dcterms:modified xsi:type="dcterms:W3CDTF">2008-12-16T14:11:49Z</dcterms:modified>
  <cp:revision>2</cp:revision>
  <dc:subject/>
  <dc:title>My Trip to …..</dc:title>
</cp:coreProperties>
</file>